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201-676C-408B-9118-BAC44471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FAB-A118-4DBE-9C56-1027764E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44C-3527-4AC8-BF55-2640EEA1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71E-712B-4F77-8385-63B2C727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9C40-66C8-49FB-A4B5-E32505FE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F552-0D6A-45C5-8F46-51CF89D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A663-1836-45DF-AA7C-5FD89BAA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1948-138C-4180-8B51-8327C917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1C78-7FA7-402B-8E4A-94144235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832E-6CE7-4C6D-9464-E53843DA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2C25-F44E-4C44-B147-E3474EB0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264-9D28-4682-B124-957C7F6F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DA0E-02D8-4DF2-84B1-2923063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92BB-D969-4DDC-93D1-E662A76B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304D-0D53-4528-BBB9-64AB733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BBF1-5D2B-4B4F-9D83-9E0B0F02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B577-98A1-40AF-BF82-D3370CDB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2C7A-4A2F-492F-B343-8D369B06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220D-6AE0-41D7-89C7-6239B072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F768-F733-469B-A7C4-A57C978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AF91-0F21-42C3-9FA7-20E06CFA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1BBF-2311-4530-9A10-78F89611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C16-28A1-4082-BC37-8E7BDFF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7DF3-23DB-453C-9E74-AD7D6F4B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4D74-5D30-4CF8-8B3B-82D1A7E4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7675-18E1-4579-AFC0-AD033F2B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C311-62C9-4704-8739-C329808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CA02-AE46-4B2A-A530-86FDCB17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40EE-DE5E-41A1-9490-AB2448EE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9CF3-BFC6-4224-A0DD-6266D1B9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93D1-DB92-4455-BC7F-1C02E4A2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63EA-373E-4EA7-8130-928C1500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094A-EA07-465C-B8F3-DBCFEBB7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E51-718B-4DFF-8D9C-E0EDE431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14DA-0CD3-4367-A3EA-2C2AC12C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D4D3D-F978-4970-B117-C5D3234F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04AC-F463-4D90-B40C-D5435328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B260-E9A7-4A4E-A9F2-F6087E1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DB52-0E46-4662-9901-45B5ED6C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AF38C-6EEB-4E75-9AF8-154E18E4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6A5EE-9F88-454A-BA30-BF0AB75F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B768D-4CDD-4490-BA69-1CB149CB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8B97-96D9-44E8-9C11-16E1562D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F2F2-C0E0-495C-A5B6-9E9F71BA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04C-4E82-4BCD-A4EF-45647DE0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EC40-274E-4003-928D-BC38CA0D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8FDEE-911E-4751-8D15-9CF95844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C53B5-7010-4EBE-9471-CEC1C8B2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8A14-378B-46EC-8C91-41FCDA77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E7B1D-F633-4C4C-8832-11E394D5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8520E-D2E7-4758-B0C9-11D2322D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8711E-A826-427E-85EA-B3E11D1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C721-2DC4-481B-81C5-30C61F7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B86D-9363-411A-A3F7-C31EFB8F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B9775-27B7-4969-8C06-20874617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32E-C298-47D7-AD4D-37967E8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5BE6-3FF8-405D-A433-E88102E1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7FFD4-8AB2-4E85-B73A-4CAACCB3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455A-0518-4A9A-9644-3060254A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E2D2-97E5-4DCE-B10B-9F9CADD3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AE2D-5225-4779-A767-E8AF38C4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8375A-3568-4F15-914A-D06ECB57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B7BE-1CC3-4027-82B8-0400F447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4119-D3B6-48AE-BF05-1E13AE3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043C8-0688-4753-A3C6-AB48A1B4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2485-566C-4056-97C6-5B213F2D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6C3-0579-48CA-80A8-B8B21484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A0C31-55F1-48F4-A447-2E769CFD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1662A-754B-4DDF-977E-353A0159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07AFE-6DD5-4245-B4F8-03DA6F91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716-AC4C-4C8D-BBDD-D11819DF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7D8-A762-4B91-B404-3AA53E9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DD45-6928-4CC6-8C3D-9B331A2E923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FB9B-A2A5-4B9E-B531-5CE2DB21316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2041-1F39-4162-AE25-AF372A9736D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9469-29A7-4296-AAC5-5BBDA59A7EF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BD02-386D-437A-B77E-3BEE48F0865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2519-E33F-40DD-8864-DE25D389E79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324000" y="333360"/>
            <a:ext cx="8135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атематика уступает  свои крепости лишь сильным и смелым.       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             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А.П. Конфорови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5" descr="DSC05469555"/>
          <p:cNvPicPr/>
          <p:nvPr/>
        </p:nvPicPr>
        <p:blipFill>
          <a:blip r:embed="rId1"/>
          <a:stretch/>
        </p:blipFill>
        <p:spPr>
          <a:xfrm>
            <a:off x="324000" y="2637000"/>
            <a:ext cx="3527280" cy="28796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6"/>
          <p:cNvSpPr/>
          <p:nvPr/>
        </p:nvSpPr>
        <p:spPr>
          <a:xfrm>
            <a:off x="3924360" y="263700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Результат учения раве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произведению способ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на старательнос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Если старательность равна нулю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То и все произведение равно нулю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А способности есть у каждого</a:t>
            </a: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!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39640" y="4653000"/>
            <a:ext cx="78487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“…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обенную важность имеют те методы науки, которые позволяют решать задачу, общую для всей практической деятельности человека: как располагать своими средствами для достижения наибольшей выгоды”.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фото ЧЕБЫШЕВ Пафнутий Львович"/>
          <p:cNvPicPr/>
          <p:nvPr/>
        </p:nvPicPr>
        <p:blipFill>
          <a:blip r:embed="rId2"/>
          <a:stretch/>
        </p:blipFill>
        <p:spPr>
          <a:xfrm>
            <a:off x="539640" y="333360"/>
            <a:ext cx="3497400" cy="403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56" name="Text Box 7"/>
          <p:cNvSpPr/>
          <p:nvPr/>
        </p:nvSpPr>
        <p:spPr>
          <a:xfrm>
            <a:off x="4427640" y="1052640"/>
            <a:ext cx="38876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бышев Пафнутий Львович (1821-1894), знаменитый русский математик, основатель Петербуржской математической школы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Плетенка"/>
          <p:cNvPicPr/>
          <p:nvPr/>
        </p:nvPicPr>
        <p:blipFill>
          <a:blip r:embed="rId2"/>
          <a:stretch/>
        </p:blipFill>
        <p:spPr>
          <a:xfrm>
            <a:off x="468360" y="1125360"/>
            <a:ext cx="3457440" cy="38102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395280" y="5229360"/>
            <a:ext cx="36734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йерштрасс Карл Теодор Вильгельм (1815-1897 гг.) - немецкий математи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24000" y="260280"/>
            <a:ext cx="504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Verdana"/>
              </a:rPr>
              <a:t>Теорема Вейерштра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716360" y="1268280"/>
            <a:ext cx="374508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прерывная на отрезке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a;b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функция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f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инимает на этом отрезке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аибольшее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аименьшее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знач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99"/>
          <p:cNvPicPr/>
          <p:nvPr/>
        </p:nvPicPr>
        <p:blipFill>
          <a:blip r:embed="rId3"/>
          <a:stretch/>
        </p:blipFill>
        <p:spPr>
          <a:xfrm>
            <a:off x="5435640" y="5013360"/>
            <a:ext cx="2592360" cy="161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222"/>
          <p:cNvPicPr/>
          <p:nvPr/>
        </p:nvPicPr>
        <p:blipFill>
          <a:blip r:embed="rId2"/>
          <a:stretch/>
        </p:blipFill>
        <p:spPr>
          <a:xfrm>
            <a:off x="324000" y="985680"/>
            <a:ext cx="3887640" cy="35467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1"/>
          <p:cNvSpPr/>
          <p:nvPr/>
        </p:nvSpPr>
        <p:spPr>
          <a:xfrm>
            <a:off x="684360" y="4869000"/>
            <a:ext cx="77752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ли функци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(x)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возрастает (убывает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н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a;b]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то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наибольшег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наименьшег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значения она достигает на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нцах этого отрез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2" descr="2345"/>
          <p:cNvPicPr/>
          <p:nvPr/>
        </p:nvPicPr>
        <p:blipFill>
          <a:blip r:embed="rId3"/>
          <a:stretch/>
        </p:blipFill>
        <p:spPr>
          <a:xfrm>
            <a:off x="4859280" y="990720"/>
            <a:ext cx="37450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4"/>
          <p:cNvPicPr/>
          <p:nvPr/>
        </p:nvPicPr>
        <p:blipFill>
          <a:blip r:embed="rId2"/>
          <a:stretch/>
        </p:blipFill>
        <p:spPr>
          <a:xfrm>
            <a:off x="611280" y="925560"/>
            <a:ext cx="3960720" cy="3405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Копия шаблон"/>
          <p:cNvPicPr/>
          <p:nvPr/>
        </p:nvPicPr>
        <p:blipFill>
          <a:blip r:embed="rId3"/>
          <a:stretch/>
        </p:blipFill>
        <p:spPr>
          <a:xfrm>
            <a:off x="4859280" y="981000"/>
            <a:ext cx="4033800" cy="3362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9"/>
          <p:cNvSpPr/>
          <p:nvPr/>
        </p:nvSpPr>
        <p:spPr>
          <a:xfrm>
            <a:off x="611280" y="4797360"/>
            <a:ext cx="8208720" cy="17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функц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f(х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отрезке [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лишь одну критическую точку и она является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точкой максимума (минимума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в этой точке функция принимает наибольшее (наименьшее) знач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max = f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иб. 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min = f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им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55"/>
          <p:cNvPicPr/>
          <p:nvPr/>
        </p:nvPicPr>
        <p:blipFill>
          <a:blip r:embed="rId2"/>
          <a:stretch/>
        </p:blipFill>
        <p:spPr>
          <a:xfrm>
            <a:off x="755640" y="333360"/>
            <a:ext cx="7415280" cy="4411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539640" y="5157720"/>
            <a:ext cx="784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ибольшего (наименьшего) значения непрерывная на </a:t>
            </a:r>
            <a:r>
              <a:rPr b="1" lang="ru-RU" sz="2000" spc="-1" strike="noStrike">
                <a:solidFill>
                  <a:srgbClr val="00cc00"/>
                </a:solidFill>
                <a:latin typeface="Verdana"/>
              </a:rPr>
              <a:t>[</a:t>
            </a:r>
            <a:r>
              <a:rPr b="1" i="1" lang="ru-RU" sz="2000" spc="-1" strike="noStrike">
                <a:solidFill>
                  <a:srgbClr val="00cc00"/>
                </a:solidFill>
                <a:latin typeface="Verdana"/>
              </a:rPr>
              <a:t>а</a:t>
            </a:r>
            <a:r>
              <a:rPr b="1" lang="ru-RU" sz="2000" spc="-1" strike="noStrike">
                <a:solidFill>
                  <a:srgbClr val="00cc00"/>
                </a:solidFill>
                <a:latin typeface="Verdana"/>
              </a:rPr>
              <a:t>; </a:t>
            </a:r>
            <a:r>
              <a:rPr b="1" i="1" lang="ru-RU" sz="2000" spc="-1" strike="noStrike">
                <a:solidFill>
                  <a:srgbClr val="00cc00"/>
                </a:solidFill>
                <a:latin typeface="Verdana"/>
              </a:rPr>
              <a:t>b</a:t>
            </a:r>
            <a:r>
              <a:rPr b="1" lang="ru-RU" sz="2000" spc="-1" strike="noStrike">
                <a:solidFill>
                  <a:srgbClr val="00cc00"/>
                </a:solidFill>
                <a:latin typeface="Verdana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ункция достигает либо на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концах отрезк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либо в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критических точках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лежащих на этом отрезк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222"/>
          <p:cNvPicPr/>
          <p:nvPr/>
        </p:nvPicPr>
        <p:blipFill>
          <a:blip r:embed="rId2"/>
          <a:stretch/>
        </p:blipFill>
        <p:spPr>
          <a:xfrm>
            <a:off x="250920" y="4508640"/>
            <a:ext cx="1944720" cy="1726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4"/>
          <p:cNvPicPr/>
          <p:nvPr/>
        </p:nvPicPr>
        <p:blipFill>
          <a:blip r:embed="rId3"/>
          <a:stretch/>
        </p:blipFill>
        <p:spPr>
          <a:xfrm>
            <a:off x="2484360" y="2565360"/>
            <a:ext cx="2160720" cy="1785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Копия шаблон"/>
          <p:cNvPicPr/>
          <p:nvPr/>
        </p:nvPicPr>
        <p:blipFill>
          <a:blip r:embed="rId4"/>
          <a:stretch/>
        </p:blipFill>
        <p:spPr>
          <a:xfrm>
            <a:off x="2484360" y="4508640"/>
            <a:ext cx="2125800" cy="1800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55"/>
          <p:cNvPicPr/>
          <p:nvPr/>
        </p:nvPicPr>
        <p:blipFill>
          <a:blip r:embed="rId5"/>
          <a:stretch/>
        </p:blipFill>
        <p:spPr>
          <a:xfrm>
            <a:off x="4859280" y="2637000"/>
            <a:ext cx="4032360" cy="3614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2345"/>
          <p:cNvPicPr/>
          <p:nvPr/>
        </p:nvPicPr>
        <p:blipFill>
          <a:blip r:embed="rId6"/>
          <a:stretch/>
        </p:blipFill>
        <p:spPr>
          <a:xfrm>
            <a:off x="250920" y="2492280"/>
            <a:ext cx="1944720" cy="18003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"/>
          <p:cNvSpPr/>
          <p:nvPr/>
        </p:nvSpPr>
        <p:spPr>
          <a:xfrm>
            <a:off x="684360" y="620640"/>
            <a:ext cx="7848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анализируйте все рассмотренные случаи. В каких точках функция достиг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большего (наименьшего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начени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95280" y="260280"/>
            <a:ext cx="806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лгоритм нахождения наибольшего и наименьшего значения функции н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[a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68360" y="1916280"/>
            <a:ext cx="8064360" cy="271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ритические то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ункции на                                интервале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ычислить значения функ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найденных критических точках и на концах отрезка,   т. е. в точках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х = а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и всех вычисленных значениях функции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ыбрать наибольшее и наименьше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539640" y="5516640"/>
            <a:ext cx="403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большее знач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1692360" y="6093000"/>
            <a:ext cx="1439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7"/>
              <p:cNvSpPr txBox="1"/>
              <p:nvPr/>
            </p:nvSpPr>
            <p:spPr>
              <a:xfrm>
                <a:off x="1919160" y="6093000"/>
                <a:ext cx="1054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;</m:t>
                            </m:r>
                            <m:r>
                              <m:t xml:space="preserve">b</m:t>
                            </m:r>
                          </m:e>
                        </m:d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Text Box 19"/>
          <p:cNvSpPr/>
          <p:nvPr/>
        </p:nvSpPr>
        <p:spPr>
          <a:xfrm>
            <a:off x="4859280" y="5516640"/>
            <a:ext cx="381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меньшее знач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5559480" y="6111720"/>
            <a:ext cx="1388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1"/>
              <p:cNvSpPr txBox="1"/>
              <p:nvPr/>
            </p:nvSpPr>
            <p:spPr>
              <a:xfrm>
                <a:off x="5508720" y="6093000"/>
                <a:ext cx="15127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;</m:t>
                            </m:r>
                            <m:r>
                              <m:t xml:space="preserve">b</m:t>
                            </m:r>
                          </m:e>
                        </m:d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2340000" y="321300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8"/>
              <p:cNvSpPr txBox="1"/>
              <p:nvPr/>
            </p:nvSpPr>
            <p:spPr>
              <a:xfrm>
                <a:off x="2419200" y="37195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0" name="Text Box 41"/>
          <p:cNvSpPr/>
          <p:nvPr/>
        </p:nvSpPr>
        <p:spPr>
          <a:xfrm>
            <a:off x="684360" y="40464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дач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2700360" y="40464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3" descr="888"/>
          <p:cNvPicPr/>
          <p:nvPr/>
        </p:nvPicPr>
        <p:blipFill>
          <a:blip r:embed="rId2"/>
          <a:stretch/>
        </p:blipFill>
        <p:spPr>
          <a:xfrm>
            <a:off x="2268360" y="189000"/>
            <a:ext cx="5688360" cy="890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4" descr="87"/>
          <p:cNvPicPr/>
          <p:nvPr/>
        </p:nvPicPr>
        <p:blipFill>
          <a:blip r:embed="rId3"/>
          <a:stretch/>
        </p:blipFill>
        <p:spPr>
          <a:xfrm>
            <a:off x="1042920" y="1268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5148360" y="1125360"/>
            <a:ext cx="718920" cy="287640"/>
          </a:xfrm>
          <a:prstGeom prst="rect">
            <a:avLst/>
          </a:prstGeom>
          <a:solidFill>
            <a:srgbClr val="f490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67"/>
          <p:cNvPicPr/>
          <p:nvPr/>
        </p:nvPicPr>
        <p:blipFill>
          <a:blip r:embed="rId2"/>
          <a:stretch/>
        </p:blipFill>
        <p:spPr>
          <a:xfrm>
            <a:off x="1403280" y="260280"/>
            <a:ext cx="6193080" cy="6264360"/>
          </a:xfrm>
          <a:prstGeom prst="rect">
            <a:avLst/>
          </a:prstGeom>
          <a:ln w="0">
            <a:noFill/>
          </a:ln>
        </p:spPr>
      </p:pic>
      <p:sp>
        <p:nvSpPr>
          <p:cNvPr id="407" name="Line 12"/>
          <p:cNvSpPr/>
          <p:nvPr/>
        </p:nvSpPr>
        <p:spPr>
          <a:xfrm>
            <a:off x="5292720" y="148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4572000" y="5877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нек"/>
          <p:cNvPicPr/>
          <p:nvPr/>
        </p:nvPicPr>
        <p:blipFill>
          <a:blip r:embed="rId2"/>
          <a:stretch/>
        </p:blipFill>
        <p:spPr>
          <a:xfrm>
            <a:off x="1042920" y="488880"/>
            <a:ext cx="712944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7"/>
          <p:cNvSpPr txBox="1"/>
          <p:nvPr/>
        </p:nvSpPr>
        <p:spPr>
          <a:xfrm>
            <a:off x="468360" y="260280"/>
            <a:ext cx="806436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8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: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ее и наименьшее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я функции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отрезке 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er"/>
          <p:cNvPicPr/>
          <p:nvPr/>
        </p:nvPicPr>
        <p:blipFill>
          <a:blip r:embed="rId2"/>
          <a:stretch/>
        </p:blipFill>
        <p:spPr>
          <a:xfrm>
            <a:off x="179280" y="2421000"/>
            <a:ext cx="4023000" cy="35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ert"/>
          <p:cNvPicPr/>
          <p:nvPr/>
        </p:nvPicPr>
        <p:blipFill>
          <a:blip r:embed="rId3"/>
          <a:stretch/>
        </p:blipFill>
        <p:spPr>
          <a:xfrm>
            <a:off x="4427640" y="2421000"/>
            <a:ext cx="4500360" cy="35290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395280" y="333360"/>
            <a:ext cx="84247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. Можно ли по этому графику найти в какой точке функция достиг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ибольшего  (наименьшего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начений?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твет обоснуйт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наибольшее значение функ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979640" y="692280"/>
            <a:ext cx="518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ГЭ 2018г, задание 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Объект 6"/>
              <p:cNvSpPr txBox="1"/>
              <p:nvPr/>
            </p:nvSpPr>
            <p:spPr>
              <a:xfrm>
                <a:off x="755640" y="4005360"/>
                <a:ext cx="789624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2124000" y="692280"/>
            <a:ext cx="49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мостоятельная рабо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qqq"/>
          <p:cNvPicPr/>
          <p:nvPr/>
        </p:nvPicPr>
        <p:blipFill>
          <a:blip r:embed="rId2"/>
          <a:stretch/>
        </p:blipFill>
        <p:spPr>
          <a:xfrm>
            <a:off x="826920" y="2060640"/>
            <a:ext cx="7653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8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324000" y="5394240"/>
            <a:ext cx="8280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;3]. График её производной изображен на рисунке.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промежутки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зрастания и убывани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функции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f(x)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84" descr="0"/>
          <p:cNvPicPr/>
          <p:nvPr/>
        </p:nvPicPr>
        <p:blipFill>
          <a:blip r:embed="rId2"/>
          <a:stretch/>
        </p:blipFill>
        <p:spPr>
          <a:xfrm>
            <a:off x="755640" y="333360"/>
            <a:ext cx="7416720" cy="4703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86"/>
          <p:cNvSpPr/>
          <p:nvPr/>
        </p:nvSpPr>
        <p:spPr>
          <a:xfrm>
            <a:off x="3851280" y="126828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87"/>
              <p:cNvSpPr txBox="1"/>
              <p:nvPr/>
            </p:nvSpPr>
            <p:spPr>
              <a:xfrm>
                <a:off x="3132000" y="1125360"/>
                <a:ext cx="18003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250920" y="5229360"/>
            <a:ext cx="86421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5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]. График её производной изображен на рисунке.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 точки максимума и минимума функции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f(x)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8" descr="00"/>
          <p:cNvPicPr/>
          <p:nvPr/>
        </p:nvPicPr>
        <p:blipFill>
          <a:blip r:embed="rId2"/>
          <a:stretch/>
        </p:blipFill>
        <p:spPr>
          <a:xfrm>
            <a:off x="1258920" y="333360"/>
            <a:ext cx="6481800" cy="44514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50"/>
              <p:cNvSpPr txBox="1"/>
              <p:nvPr/>
            </p:nvSpPr>
            <p:spPr>
              <a:xfrm>
                <a:off x="2556000" y="1125360"/>
                <a:ext cx="15112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6"/>
          <p:cNvSpPr/>
          <p:nvPr/>
        </p:nvSpPr>
        <p:spPr>
          <a:xfrm>
            <a:off x="539640" y="5084640"/>
            <a:ext cx="8064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;4]. График её производной изображен на рисунке. Определите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сколько существует точек на графике функции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f(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х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)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, касательные в которых параллельны прямой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Verdana"/>
              </a:rPr>
              <a:t>y = 5 – 2x</a:t>
            </a:r>
            <a:r>
              <a:rPr b="1" i="1" lang="ru-RU" sz="20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8" descr="09"/>
          <p:cNvPicPr/>
          <p:nvPr/>
        </p:nvPicPr>
        <p:blipFill>
          <a:blip r:embed="rId2"/>
          <a:stretch/>
        </p:blipFill>
        <p:spPr>
          <a:xfrm>
            <a:off x="539640" y="260280"/>
            <a:ext cx="8064720" cy="454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4" name="Object 50"/>
              <p:cNvSpPr txBox="1"/>
              <p:nvPr/>
            </p:nvSpPr>
            <p:spPr>
              <a:xfrm>
                <a:off x="1476360" y="549360"/>
                <a:ext cx="1511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1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46087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468360" y="5300640"/>
            <a:ext cx="82090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;6]. Её график  изображен на рисунке.  Найдите точки минимума функции.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 точки в которых её производная равна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1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478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9"/>
          <p:cNvSpPr/>
          <p:nvPr/>
        </p:nvSpPr>
        <p:spPr>
          <a:xfrm>
            <a:off x="539640" y="5229360"/>
            <a:ext cx="82090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ия у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определена на отрезке [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;6]. Её график  изображен на рисунке. Найдите точки максимума функции. 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пределите точки в которых  производная этой функции не существу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1234a"/>
          <p:cNvPicPr/>
          <p:nvPr/>
        </p:nvPicPr>
        <p:blipFill>
          <a:blip r:embed="rId2"/>
          <a:stretch/>
        </p:blipFill>
        <p:spPr>
          <a:xfrm>
            <a:off x="1187280" y="1484280"/>
            <a:ext cx="2880000" cy="2443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1234b"/>
          <p:cNvPicPr/>
          <p:nvPr/>
        </p:nvPicPr>
        <p:blipFill>
          <a:blip r:embed="rId3"/>
          <a:stretch/>
        </p:blipFill>
        <p:spPr>
          <a:xfrm>
            <a:off x="5003640" y="1484280"/>
            <a:ext cx="2880000" cy="244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11234c"/>
          <p:cNvPicPr/>
          <p:nvPr/>
        </p:nvPicPr>
        <p:blipFill>
          <a:blip r:embed="rId4"/>
          <a:stretch/>
        </p:blipFill>
        <p:spPr>
          <a:xfrm>
            <a:off x="1258920" y="4149720"/>
            <a:ext cx="2808360" cy="2382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234"/>
          <p:cNvPicPr/>
          <p:nvPr/>
        </p:nvPicPr>
        <p:blipFill>
          <a:blip r:embed="rId5"/>
          <a:stretch/>
        </p:blipFill>
        <p:spPr>
          <a:xfrm>
            <a:off x="5076720" y="4149720"/>
            <a:ext cx="2808360" cy="23828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9"/>
          <p:cNvSpPr/>
          <p:nvPr/>
        </p:nvSpPr>
        <p:spPr>
          <a:xfrm>
            <a:off x="826920" y="189000"/>
            <a:ext cx="73454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 каком рисунке изображен график фун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395280" y="2492280"/>
            <a:ext cx="50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468360" y="5084640"/>
            <a:ext cx="50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4284720" y="2492280"/>
            <a:ext cx="43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4356000" y="5084640"/>
            <a:ext cx="50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4" descr="1177"/>
          <p:cNvPicPr/>
          <p:nvPr/>
        </p:nvPicPr>
        <p:blipFill>
          <a:blip r:embed="rId6"/>
          <a:stretch/>
        </p:blipFill>
        <p:spPr>
          <a:xfrm>
            <a:off x="2916360" y="549360"/>
            <a:ext cx="23032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755640" y="1197000"/>
            <a:ext cx="7848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timum -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аилучший"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01:39Z</dcterms:created>
  <dc:creator>maks</dc:creator>
  <dc:description/>
  <dc:language>en-US</dc:language>
  <cp:lastModifiedBy>Надежда</cp:lastModifiedBy>
  <dcterms:modified xsi:type="dcterms:W3CDTF">2018-07-15T05:22:13Z</dcterms:modified>
  <cp:revision>37</cp:revision>
  <dc:subject/>
  <dc:title>Слайд 1</dc:title>
</cp:coreProperties>
</file>